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7.wmf" ContentType="image/x-wmf"/>
  <Override PartName="/ppt/media/image20.jpeg" ContentType="image/jpeg"/>
  <Override PartName="/ppt/media/image6.jpeg" ContentType="image/jpeg"/>
  <Override PartName="/ppt/media/image19.wmf" ContentType="image/x-wmf"/>
  <Override PartName="/ppt/media/image17.jpeg" ContentType="image/jpeg"/>
  <Override PartName="/ppt/media/image16.jpeg" ContentType="image/jpeg"/>
  <Override PartName="/ppt/media/image14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EA862-AF3B-4AF0-AAC3-7C67B0916A3A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03324-600C-466F-9696-8848DDCE9C63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4518-02B2-419A-884C-CB22CE7DC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2B0E-CC3E-4360-B0F0-76AED974B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EEE7-9A96-485F-8B3C-9076A7A52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2AFA-D73F-4248-B69B-14062B331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86D3-8FB4-4872-B5FE-1B3655B2F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1C99-E269-4A4E-8C2C-ACFF9F48D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4E92-722F-4EEA-9549-A711EE7AD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4DE9-6791-44FB-BD39-4075ECEEC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BA6C-082E-4DED-AE39-65FBFF40C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5416-DF14-4E51-A771-57F0C3BAF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AFC6-BF50-4A2A-A3A7-D13A4E6B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4AF2-D985-4810-BAE0-0D4F3C85B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44629-85F1-49BB-8DEC-8B336069978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C:\Documents and Settings\lsabey\Local Settings\Temporary Internet Files\Content.IE5\NC28D29Z\MPj04053960000[1].jpg"/>
          <p:cNvPicPr/>
          <p:nvPr/>
        </p:nvPicPr>
        <p:blipFill>
          <a:blip r:embed="rId1"/>
          <a:stretch/>
        </p:blipFill>
        <p:spPr>
          <a:xfrm>
            <a:off x="1752480" y="2286000"/>
            <a:ext cx="6400800" cy="457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我</a:t>
            </a:r>
            <a:r>
              <a:rPr b="0" lang="ja-JP" sz="44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喜欢每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一个月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 like every month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9528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898989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九月有收获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【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ōuhuò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rv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C:\Documents and Settings\lsabey\Local Settings\Temporary Internet Files\Content.IE5\FZQK8WK2\MPj04387180000[1].jpg"/>
          <p:cNvPicPr/>
          <p:nvPr/>
        </p:nvPicPr>
        <p:blipFill>
          <a:blip r:embed="rId1"/>
          <a:stretch/>
        </p:blipFill>
        <p:spPr>
          <a:xfrm>
            <a:off x="1828800" y="1592280"/>
            <a:ext cx="6156360" cy="41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十月</a:t>
            </a:r>
            <a:r>
              <a:rPr b="0" lang="ja-JP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有万圣节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ànshèngjié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】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C:\Documents and Settings\lsabey\Local Settings\Temporary Internet Files\Content.IE5\UIWGF83Q\MPj04387500000[1].jpg"/>
          <p:cNvPicPr/>
          <p:nvPr/>
        </p:nvPicPr>
        <p:blipFill>
          <a:blip r:embed="rId1"/>
          <a:stretch/>
        </p:blipFill>
        <p:spPr>
          <a:xfrm>
            <a:off x="1752480" y="167652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十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一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月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有感恩节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【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ǎnēnjié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】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3" descr="C:\Documents and Settings\lsabey\Local Settings\Temporary Internet Files\Content.IE5\29Y32KFX\MCj04110870000[1].wmf"/>
          <p:cNvPicPr/>
          <p:nvPr/>
        </p:nvPicPr>
        <p:blipFill>
          <a:blip r:embed="rId1"/>
          <a:stretch/>
        </p:blipFill>
        <p:spPr>
          <a:xfrm>
            <a:off x="1828800" y="2514600"/>
            <a:ext cx="5791320" cy="34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十二月有圣诞节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【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hèngdànjié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】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C:\Documents and Settings\lsabey\Local Settings\Temporary Internet Files\Content.IE5\29Y32KFX\MPj04402810000[1].jpg"/>
          <p:cNvPicPr/>
          <p:nvPr/>
        </p:nvPicPr>
        <p:blipFill>
          <a:blip r:embed="rId1"/>
          <a:stretch/>
        </p:blipFill>
        <p:spPr>
          <a:xfrm>
            <a:off x="3048120" y="1143000"/>
            <a:ext cx="3581280" cy="53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Calibri"/>
                <a:ea typeface="宋体"/>
              </a:rPr>
              <a:t>我喜欢每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一个月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I like every month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C:\Documents and Settings\lsabey\Local Settings\Temporary Internet Files\Content.IE5\UIWGF83Q\MPj04393360000[1].jpg"/>
          <p:cNvPicPr/>
          <p:nvPr/>
        </p:nvPicPr>
        <p:blipFill>
          <a:blip r:embed="rId1"/>
          <a:stretch/>
        </p:blipFill>
        <p:spPr>
          <a:xfrm>
            <a:off x="3200400" y="1600200"/>
            <a:ext cx="3005280" cy="4525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C:\Documents and Settings\lsabey\Local Settings\Temporary Internet Files\Content.IE5\29Y32KFX\MPj04402860000[1].jpg"/>
          <p:cNvPicPr/>
          <p:nvPr/>
        </p:nvPicPr>
        <p:blipFill>
          <a:blip r:embed="rId2"/>
          <a:stretch/>
        </p:blipFill>
        <p:spPr>
          <a:xfrm>
            <a:off x="1752480" y="1447920"/>
            <a:ext cx="1830600" cy="1322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C:\Program Files\Microsoft Office\MEDIA\CAGCAT10\j0293828.wmf"/>
          <p:cNvPicPr/>
          <p:nvPr/>
        </p:nvPicPr>
        <p:blipFill>
          <a:blip r:embed="rId3"/>
          <a:stretch/>
        </p:blipFill>
        <p:spPr>
          <a:xfrm>
            <a:off x="6019920" y="1371600"/>
            <a:ext cx="1744560" cy="1836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C:\Program Files\Microsoft Office\MEDIA\CAGCAT10\j0233312.wmf"/>
          <p:cNvPicPr/>
          <p:nvPr/>
        </p:nvPicPr>
        <p:blipFill>
          <a:blip r:embed="rId4"/>
          <a:stretch/>
        </p:blipFill>
        <p:spPr>
          <a:xfrm>
            <a:off x="6781680" y="3654360"/>
            <a:ext cx="2076480" cy="2116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C:\Documents and Settings\lsabey\Local Settings\Temporary Internet Files\Content.IE5\UIWGF83Q\MPj04389130000[1].jpg"/>
          <p:cNvPicPr/>
          <p:nvPr/>
        </p:nvPicPr>
        <p:blipFill>
          <a:blip r:embed="rId5"/>
          <a:stretch/>
        </p:blipFill>
        <p:spPr>
          <a:xfrm>
            <a:off x="380880" y="4191120"/>
            <a:ext cx="2362320" cy="15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一月有新年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【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xīnniá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w Year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C:\Documents and Settings\lsabey\Local Settings\Temporary Internet Files\Content.IE5\FZQK8WK2\MPj04393580000[1].jpg"/>
          <p:cNvPicPr/>
          <p:nvPr/>
        </p:nvPicPr>
        <p:blipFill>
          <a:blip r:embed="rId1"/>
          <a:stretch/>
        </p:blipFill>
        <p:spPr>
          <a:xfrm>
            <a:off x="1631880" y="1600200"/>
            <a:ext cx="58802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二月有总统节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【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zǒngtǒngjié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】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C:\Documents and Settings\lsabey\Local Settings\Temporary Internet Files\Content.IE5\FZQK8WK2\MCj01498810000[1].wmf"/>
          <p:cNvPicPr/>
          <p:nvPr/>
        </p:nvPicPr>
        <p:blipFill>
          <a:blip r:embed="rId1"/>
          <a:stretch/>
        </p:blipFill>
        <p:spPr>
          <a:xfrm>
            <a:off x="4219560" y="2057400"/>
            <a:ext cx="4467240" cy="3387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C:\Documents and Settings\lsabey\Local Settings\Temporary Internet Files\Content.IE5\NC28D29Z\MCj01500530000[1].wmf"/>
          <p:cNvPicPr/>
          <p:nvPr/>
        </p:nvPicPr>
        <p:blipFill>
          <a:blip r:embed="rId2"/>
          <a:stretch/>
        </p:blipFill>
        <p:spPr>
          <a:xfrm>
            <a:off x="838080" y="1219320"/>
            <a:ext cx="335304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三月有春天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【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ūntiā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pring;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" descr="C:\Documents and Settings\lsabey\Local Settings\Temporary Internet Files\Content.IE5\FZQK8WK2\MPj04387350000[1].jpg"/>
          <p:cNvPicPr/>
          <p:nvPr/>
        </p:nvPicPr>
        <p:blipFill>
          <a:blip r:embed="rId1"/>
          <a:stretch/>
        </p:blipFill>
        <p:spPr>
          <a:xfrm>
            <a:off x="2438280" y="1295280"/>
            <a:ext cx="4343400" cy="50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C:\Documents and Settings\lsabey\Local Settings\Temporary Internet Files\Content.IE5\NC28D29Z\MPj04385820000[1].jpg"/>
          <p:cNvPicPr/>
          <p:nvPr/>
        </p:nvPicPr>
        <p:blipFill>
          <a:blip r:embed="rId1"/>
          <a:stretch/>
        </p:blipFill>
        <p:spPr>
          <a:xfrm>
            <a:off x="4114800" y="4191120"/>
            <a:ext cx="2743200" cy="18316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四月有复活节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【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ùhuójié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】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C:\Program Files\Microsoft Office\MEDIA\CAGCAT10\j0304933.wmf"/>
          <p:cNvPicPr/>
          <p:nvPr/>
        </p:nvPicPr>
        <p:blipFill>
          <a:blip r:embed="rId2"/>
          <a:stretch/>
        </p:blipFill>
        <p:spPr>
          <a:xfrm>
            <a:off x="1905120" y="2209680"/>
            <a:ext cx="429732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五月有母亲节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【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ǔqīnjié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her's Day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C:\Documents and Settings\lsabey\Local Settings\Temporary Internet Files\Content.IE5\FZQK8WK2\MPj04387990000[1].jpg"/>
          <p:cNvPicPr/>
          <p:nvPr/>
        </p:nvPicPr>
        <p:blipFill>
          <a:blip r:embed="rId1"/>
          <a:stretch/>
        </p:blipFill>
        <p:spPr>
          <a:xfrm>
            <a:off x="3124080" y="1523880"/>
            <a:ext cx="299736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六月有父亲节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【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ùqinjié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ther‘s Da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C:\Documents and Settings\lsabey\Local Settings\Temporary Internet Files\Content.IE5\NC28D29Z\MPj04387110000[1].jpg"/>
          <p:cNvPicPr/>
          <p:nvPr/>
        </p:nvPicPr>
        <p:blipFill>
          <a:blip r:embed="rId1"/>
          <a:stretch/>
        </p:blipFill>
        <p:spPr>
          <a:xfrm>
            <a:off x="1752480" y="1541520"/>
            <a:ext cx="6232680" cy="45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七月有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国庆节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【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uoqing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ié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Independence Da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C:\Documents and Settings\lsabey\Local Settings\Temporary Internet Files\Content.IE5\29Y32KFX\MPj04392510000[1].jpg"/>
          <p:cNvPicPr/>
          <p:nvPr/>
        </p:nvPicPr>
        <p:blipFill>
          <a:blip r:embed="rId1"/>
          <a:stretch/>
        </p:blipFill>
        <p:spPr>
          <a:xfrm>
            <a:off x="2438280" y="1606680"/>
            <a:ext cx="4724640" cy="48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八月</a:t>
            </a:r>
            <a:r>
              <a:rPr b="0" lang="ja-JP" sz="44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学生上课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十一月上学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【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àngxué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】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C:\Documents and Settings\lsabey\Local Settings\Temporary Internet Files\Content.IE5\NC28D29Z\MPj04393190000[1].jpg"/>
          <p:cNvPicPr/>
          <p:nvPr/>
        </p:nvPicPr>
        <p:blipFill>
          <a:blip r:embed="rId1"/>
          <a:stretch/>
        </p:blipFill>
        <p:spPr>
          <a:xfrm>
            <a:off x="2362320" y="1484280"/>
            <a:ext cx="5029200" cy="47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9T19:26:53Z</dcterms:created>
  <dc:creator>itsuser</dc:creator>
  <dc:description/>
  <dc:language>en-US</dc:language>
  <cp:lastModifiedBy>itsuser</cp:lastModifiedBy>
  <dcterms:modified xsi:type="dcterms:W3CDTF">2009-03-17T18:01:01Z</dcterms:modified>
  <cp:revision>25</cp:revision>
  <dc:subject/>
  <dc:title>Months</dc:title>
</cp:coreProperties>
</file>